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E78-4E07-49ED-A530-CE87461B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C68-41EE-4289-AD46-EA8CA294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631BE-6271-4CA2-BF90-E7EAE288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091D2-32DA-4E7D-B783-F9B5F750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806D4-D722-4CD4-B839-9D6D56BD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B6982-E21F-43E7-906F-DDAD020F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2BC86-41E1-411F-89C1-6F4C61BD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1049C-2144-45C2-B7EA-DA02C687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4E917-7C0E-4AFC-B7AB-AAE311BE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105DB-6D6C-4776-B2D9-11703B54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78E09-4394-452F-9FEC-41583297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A7329-8318-4516-912E-CEE79DCC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BE1-6E53-4703-ABBA-156890CD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58DF3-EF7E-4842-98C8-979DC6B3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29F14-0C9D-486C-AD1F-EBABAC31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1D283-9A4B-435B-8CD1-995D3225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A0DDE-9379-4688-AD4E-599C247A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DFFD7-C2C8-40B1-8DA6-A8A13A76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15253-3EBB-4B93-94F4-5C91D17E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99C67-0C71-4436-AA77-D26A7439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CEF52-FE22-4DDB-BBE7-7FFAE67D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8BEF3-8B6E-465D-8FD3-E54D43C3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84F8F-B33F-49E3-9B03-4F54D6B2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A60-22F1-4EC6-AEDC-DC430F46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2D30C-E33E-40EC-A8F7-3CC163B0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F226F-B6A5-4F72-9338-8BAB053A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5AEEE-0DEC-4716-B438-10759B99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930E0-FCD3-4EDB-9DD5-27073BA4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95F54-E090-4630-BE49-D483BB51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A7C34-4BBD-4A94-BF25-05196945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0B817-A7B1-412F-9166-556F61A0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E6C52-933C-417B-BEB9-7FB69557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00AE8-8A87-40BE-A503-F1F2B6E0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4B9A9-8902-4AF3-A677-373443D6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E047-6D36-4FA5-B469-90AE7CF2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69EE3-55C3-47F1-BFAE-BE878EC1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A12C4-6A25-4891-B1A6-79DB7E0D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EBA80-DCA3-4B08-8C4C-71EB1F60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13E31-B4F0-4F3A-94DD-BFB9A81E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A9FFA-FB26-4153-B4A7-ECC72954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AA15C-4E46-492A-91A9-1F81F6F5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A4654-817E-4900-AEE9-2FB51093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141FE-2335-40CA-B5E0-9FC9459B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E40ED-B102-4503-8ADE-EEEA4AF9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B2BC1-46BA-46B4-A85A-D0C9753F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A667-26E5-442E-ADAF-E75AD222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3D0F7-2854-4AA6-94C9-0867E11A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C5C97-89F7-42F6-943B-465D33AE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5815A-5965-42D5-B92F-A9A70A69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D6FAC-0016-479A-868F-B49C05F5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02529-9FD9-4169-8C84-850C6301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CEBC6-2616-4D76-88F4-BDBB6C26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2209B-C0CA-4B75-AFFF-FF8622D8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CF333-7A20-4CDA-984C-57233D34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75B624-43FA-4162-9002-E214082C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0145A-A653-4C45-BF88-38A5AEF3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280E-251B-4AAB-8C5E-0C333053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C95FE-7D8C-4BFF-BD2C-59854D9C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99EA4-4FCC-4886-A362-7F13D743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9DAC5-D362-4AF6-84F4-43C3FAD7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04C1C-9657-4C2F-851F-943BD187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0EF2D-D17C-449C-82D0-C13B8840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10E872-90C3-49C2-8985-18BD8F19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623FD-AE49-49F4-AD27-7EC0F42E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628D37-962A-4105-857B-22141D25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86183-8E61-41E4-861F-C42A7D00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9E506-CD22-4EF1-82A0-C6591DBE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B1A7-44CF-484F-AFB1-B9BD6051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2B609B-FA05-4298-97F6-4C5ED84E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AE13A-D2C6-4407-A41B-4FE35B74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3B7CF-918A-4D10-96FF-4DD892CE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7CE8F-60BA-4684-92C9-62F5529E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7501C-CA8A-4BD4-BC38-B6676C84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33D15-1C25-4564-B415-22C83EB0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834C6-D34E-4BE6-B121-4489EB12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52BB1-C7DB-4A15-98D9-E5840B30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443B6-897A-4580-80A5-AC7EB885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1002C-33C5-47F3-8EED-55A5D95B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3B5F-98E6-42F0-A642-931FA113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0593F-CD0A-4783-A287-CE81584F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08F7E-5C7D-4129-B0B4-A586AE0E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1CED4-605D-45FC-8D73-1A30D62E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56C57E-302F-4574-9960-7B5FA263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92945-9B97-4CCC-8E8C-9AE546B2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BC84F-C9EC-4B1E-8538-10BE013A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00BF4-44C7-4DCD-B748-71FB941E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701D54-B7FD-4F56-B0F2-D6A0D1D2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06145-C03D-4C93-B639-7C7D0775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64D6A6-03BC-4D4C-BBA2-7FC073A1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F3CD-79BF-4638-AEC0-8FBA990E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A0FB2-32EF-47D9-AA61-80388102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AE24C-8878-451F-BB2C-8E5584D9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DC35D-B497-4852-9338-027298EC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017F37-1F1E-41B8-B149-85468AD1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61BF06-FE56-45A4-ADAA-818459BE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9BA81F-44B0-4784-B34B-A755EC6A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0E5FC3-3E81-4881-B80A-2C5A66DE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475F5B-4D57-4165-8A21-FBBA6972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B8B7F-A25F-4254-A286-63201DF3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CF4762-2BA0-4E75-B9E6-118EDD95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EB23-F776-47B8-8D7A-D7E38926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5A67B-0EE6-4DFB-AD37-31B106FB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D9031A-E74F-4C8E-8F77-AA1142AF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1BADE7-435A-45D8-8BA1-1E37351C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57160-48DD-43E8-BE53-3E94BDBA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140B6-739B-40DE-8193-BB8A7C40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B93B13-B54F-4D45-877C-99ED4E15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31234-9767-4D84-9755-961D7FAA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B5A10E-4867-4461-85C3-585EBD67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FABF2-A300-41B9-ACD0-346B1453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923F6-866B-4730-904D-6634F970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D97-7E1F-451C-9313-565530B7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AB89-43C4-4BD2-94A1-BD767872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6635C5-AAA4-41EA-AF73-65D6FCE4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F92924-BA6A-4FB9-9B9F-59B20C2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5750E-177E-4BF3-B121-3C4CD93D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C8120-85B9-4E80-B3E4-E63FE872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CB57AB-4987-4A71-B85E-D7F3C0E3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4DE030-793B-4227-ABA3-60195497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3CAC64-6C7C-4697-9410-3D2531DF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40AD9-0A4E-40F0-8EC5-B05AAA34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E5C01-E3D9-40C4-A135-2087EFD7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90A25D-9A59-4629-9EED-3EE0159C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C36C-104E-467D-B5D2-13E3458C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4BEB68-3B32-4BAE-AE6E-CCB49137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F9844-87FC-4D4B-9E56-16E23B54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389F8E-FE3E-4FF2-92AD-1D961214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AF6DE0-B1BB-4C79-96B7-3A85D7D8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590514-979C-44F1-9622-718BFDB0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D6D4B-DE08-40D8-B19F-7264CB1E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373DC4-E0DF-478C-A5B0-8D88875D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48B398-CDD9-46B6-A78B-7CE91DC8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769A40-822C-481E-81E2-1E2C1691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F9B4B1-903D-4297-893B-172A0189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07EA-256A-4B44-87F7-3BE9EF47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F857A-23B1-4D62-886C-55F2CA1E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80FB8F-7E36-4FE8-AE1F-549E84E4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160125-1AF9-4ECC-A591-969056E3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44F381-FB27-402C-91F4-D347DE77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3556DC-907F-478D-B972-5621F23E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AFF0C0-D1A6-4D7F-8D16-7D598F34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274C5-167E-460D-92A9-6867B540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B9EB0B-87C3-4135-8FBE-DFAE5442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4E3300-137A-4076-950D-15109568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ECF970-C852-4809-93C7-32268B21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D8CB-88CE-42BB-9797-42A5FFE2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5B0282-113C-43D3-8E0D-53F557EB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30667-29B3-45E5-99BD-17949380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B71E9-83D4-4445-98E5-6FE2D75C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2358F6-2183-4DD0-B92C-7E1ECA42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C9F8F4-C5F1-41CA-A9FF-BA9DA6C9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891BCD-80CE-420E-B420-7BB052ED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180AD6-BE23-4DB2-8217-A726CC97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E332FD-205E-480E-9BDD-4DE0792E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D9EB3D-365C-4400-BBC5-13B577F0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46D77F-2E06-4A08-B872-60674877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5F14-AB65-4172-A4D6-50CE596F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7B318B-0086-437C-8AAC-311B4E90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7489AD-D90F-4FF9-80C1-9FB3D14D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72CE27-C42A-499D-A7DD-CCC85C32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37449-7D79-4EAB-96F3-0F9D1E1D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DE3B87-147C-4DF3-B546-2FA09877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D34D1A-8993-4674-954F-3C6BA4E0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0ECC07-BCAF-4A79-9EB9-F8B5BBC8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79D402-2E33-4B4B-A3CC-1234AD9A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C4C4DE-2568-4973-99B8-02CA275D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1C9E02-E060-47BF-9CC8-A0A40DD1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872C-297F-4445-A344-2D6D2962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0343D9-19AF-4804-9870-2F10A462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2B29BB-DBC2-4DD8-8EA4-D817B075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F54291-3C2D-497E-9A43-3A1D88D2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FACCB4-35FB-46D0-9618-3C612DAF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9220AA-809F-4D87-888C-BD0C56FB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C96460-F4E2-47B9-AE7F-EFD4A716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9150D3-C80B-4A3F-B6D5-51BD1756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F7B9F9-75CA-4E8D-ADAD-ECCBCAF6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580050-B31F-4A71-B5FF-7327C902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5C6C24-E0EA-4131-9735-A4960E25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11118-C693-46CF-9AA3-9DEAC2A6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7061C-35F8-450E-9453-5B629BBE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C8DE16-BD6B-47BD-BBCB-5C90AA4D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8B9799-B1BB-45D0-B855-D1B4EE0F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051E06-5AB0-488C-A9EB-710184DC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98669A-A09B-4F08-BFEF-EE439D73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4A127D-47A4-46F3-BEFC-C00B6B6E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CB1483-09FA-4FE1-AA74-24E652F7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FD47DB-282A-476A-BD58-B4CC3D34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EE8B3F-E3C9-445D-88E7-1CEC6246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3DD8A0-03A1-4DFF-B3AB-F2C011E7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8919-2DC1-4A93-97F3-C8A9B648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7AE616-D836-435F-BD06-36B7C191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CC412B-03CE-435D-A82C-9B84D5C0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868A8F-24BA-4428-B1F0-66243913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655BA9-BFBB-4F01-A7EF-60414806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2974E6-544C-4C5C-8965-51CF6488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D8DA14-914D-4A12-B578-2701A9E2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4633F7-3202-4723-9259-01E87338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EA724B-8A36-4CAB-AA31-BBD1BF6F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95D34D-0962-4ADC-B1ED-C51D8232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253EDB-00BF-4541-BB62-6F7F4C06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349FE-7FF8-4267-837F-CCB4D765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FEC9DD-3C05-4760-AEBF-827FF9F1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6B6362-B07E-454D-82C1-88805545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C0CC80-F805-496E-986F-533A0431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31D9ED-8A54-4FA4-A0CE-82A09125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C594DE-4AF6-48DC-8926-2B3149D7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B7BEF4-1F97-44A9-A8E6-C163AF3A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83E37B-5C7A-425B-9FDF-DB32D4B7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B57EC0-D565-45B4-9B0E-6789DF51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EC679D-A97D-43FE-B1AC-71DE72B6C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E5FE04-B6B6-4AC5-914F-3B7172D4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2A68C-B876-402C-8970-3870C75B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EB251A-35FC-4A12-8C54-8AA9CB5A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379303-E68D-4790-B213-12430ECF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6C7283-1621-4981-9ED3-E5C814AD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3E521E-56FC-458F-826A-44D10956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CD8941-3F1F-4079-B8B5-9E58E5B3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681E1A-447A-4103-80D6-4A3C7359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DDCD53-A090-4110-8A5E-2E1C09BE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704E37-1614-491C-B6FE-024CAC9E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81DADE-4B0F-451D-8D6B-E6FB7A5A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A05A1E-1491-4F12-9152-C3BE4B1E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160-48A7-4D16-BF91-46F1AD54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0EEF-D842-4CD5-A9BE-565CEA2F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D57C41-55E5-4913-A8FF-F310C54A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0F657C-16DE-4397-B501-3DBC4D64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57CEEF-324B-45D6-AFDD-9C1FB5C8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AD9BE7-97D6-4A0D-9090-482C138B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82D2E7-2D2C-49E7-A059-ACAACE00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584F98-8A7F-45E2-85D4-503026B7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0D6A47-3CFD-4C9E-964A-47320502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71E28D-479A-41A3-91AF-69694E45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3FD2EF-2576-4EEC-8F41-2F9691D5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29A329-EC3D-41E5-870C-3D3C8FE8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4EBD1-402F-48FC-A4C9-90DECF89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4B0299-0FB1-4EE5-9134-73783C68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84D025-0FEE-4F24-A364-E88569BA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853DBF-8FFC-4CA0-A0D7-46DE35D8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FB0B89-EB28-48F4-8150-7D82D833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255C75-C9F5-443F-96CE-9240133D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19A86A-523B-457F-963F-B02F342E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61A8DF-6C53-4259-BD16-3FD07E85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E0F3F4-EA99-4D73-BFAF-5BD570A4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FFB466-53A1-4F41-A17B-FEE5B446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4B0C43-AA25-47F1-8B53-9983C9A7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2D71-02CC-472B-9042-21BF8D39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260D00-CE1A-49A9-9376-52B7F1E2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40B177-FBD7-4F60-BF4A-0DE1E65E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162D49-944F-4DEB-8B52-2A80BAF0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074398-488D-4132-B4B9-FD657A81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1766BD-9440-4778-9070-45BE8279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FB8215-CAE6-4B59-8D80-B28FB93B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7C1AB4-1C6C-44A1-B39E-B60025A0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2C7037-F5BF-457D-A9D4-C7B6821D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14ED32-3AEB-4E41-A932-BCBF87F6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803B35-FC17-438D-AD98-2781CBBA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C7D88-AEED-44C3-9D52-76EB1363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A00A8D-A608-4EB2-931A-8701F01B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978F9A-FC34-4C55-BE10-9C41B302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71AD64-7528-4837-AAEC-70B7C0E2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FADF1B-123A-425B-A7F4-41203B65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D7DD34-B044-42A4-917C-73EDC47E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BB387E-793C-4254-8145-404EA06B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9EDDE6-E295-423B-87A2-30A2B19B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FDDB30-EC7F-4399-88C5-CC1FB249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05DFD3-FFCA-4686-84D7-F4260932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4D93A5-6392-42D4-BDCB-4D87616F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106C-D511-4AE2-918B-3E966496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F3DC56-25D7-4E30-AF40-5D55617B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D83B91-4133-46D5-9051-F5DEB9E5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5354082-E630-4F05-A4E5-9CDF75A6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57AAC5-2BE3-4DEF-A315-22915AD7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089AE8-7408-41A5-966E-EFE36B05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1DA25C-CDB3-4B88-8865-6FC4D771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5CDFD4-188C-4EA7-9E5E-C9B159F2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13D56F-0140-4266-8020-5680A6BD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2FA41E-A464-42B8-A644-F9B8F790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D17EDA-B526-4E25-9C09-C943E8AC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CD92-D53F-4038-8ACD-A98CFFF9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1047B3-9DC0-48E7-9A01-1054B26B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080E79-157B-4934-AA07-5F8EABE3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17D6C6-69F4-4DA8-8973-0398E528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405F03-AE17-45EB-B60C-C9FF0542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C86AFA-6CBE-44AD-ABED-D587BEAE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D244E7-001D-49AF-ABF4-C478C955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63B267-58D6-4A6A-8A5B-51496A48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D05CB0-043F-4968-963E-D4412FD2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EBD052-0FF8-4F24-AF4D-66A25B54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32DE94-FEDC-40B0-8021-6BC46FD8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2D537-AEA4-4EDC-9CA9-8F9D8FF9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165B2E-C9CA-4711-B15E-69FBF7FA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675404-4D01-47E8-A77C-288AD031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5F102D-C467-4F5E-9EB8-1AF4CA1D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1959DE-64A2-4FA6-A4CF-E0292D97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AE493A-2CAE-4AD6-866A-F0B3A9EA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9F31BF-B258-4B17-8D4E-7FE659FA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9B5A81-2477-4E70-8957-5646DB8E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1E4A94-11DD-41AF-AFA4-C10C7DA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226C3F-1A10-4AA9-9875-AA4735A4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521BC0-42B0-40C7-BBF4-790CC20D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2481-2DEA-470D-B343-B8D27CA7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FFF3EA-D4FC-44D3-9211-F7EE9781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62ECBD-6A45-421F-86A4-2830AD79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116791-BA71-4F2F-B9DB-4917D982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B054-D1DC-461A-A4AE-0090BEBF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8DEF9-2914-4627-A41E-5E31FED8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700-4EF5-411E-819E-44403BF0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8D4DA-DC61-404E-A2AC-92D3EE74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5AD0C-1814-456E-917E-8CB6E731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D83A9-7945-49A4-8C12-C8811A2E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49E8D-C4EC-4CE5-8F2A-AC7F9D11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01DC7-0FD8-4B49-A9FF-92E1C4D8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3BEB-599C-4461-8015-98F4D1DF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23113-FF25-4F0A-914E-6F7E1387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2877B-385D-4738-A65B-78D78668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53AF8-DBDA-4A0D-B593-443A6E17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C2ADD-8378-47FC-9AEE-71195D8B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2E2-630E-4ABE-B517-13DC0643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77C28-F029-494E-ACD7-29E670B2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3220D-CDAB-463D-B427-DF14B89C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BC383-3B96-462D-A7E2-CFBE98FB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142D9-60FA-4AEF-B61F-F9CD8B25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9EEB5-3638-4C7B-91EC-10234616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0FF31-4CF7-4A5E-832F-C624B854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F25A9-370C-4DC6-9A59-B9AB575F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218E5-290D-47B0-859D-9247099A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21B06-1017-4F5B-A419-27081307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62131-403C-408E-A419-2F030C1B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1EA-012F-43BC-B3D4-85DC9123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70B4B-6ED0-4948-805C-5CE3AB9A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F6248-DB74-40E5-9603-128A83AB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E7E3D-B82D-4F61-B34A-C3AEC592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27185-1C8E-4ECE-A2EC-4B098041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AA9EE-DC2C-4D98-9A70-884AA349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D4A1E-C901-4007-9FDD-79D31604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217AB-764F-4702-AAA7-43C7FC8B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5BCE6-1C0E-4E3D-ABB4-66060EC6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DE60B-AE5D-4E1E-85E3-69188D24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0173-9CEF-4FAD-86EA-5EBC6C77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1F8-B8FD-43BF-91CD-4E6BE701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8701A-0740-416B-9C9D-B6A6E909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10141-214F-468F-A371-7B4B2C05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4E656-C1B9-4F9E-8FDC-804A1670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2A4F0-F70B-42AB-A695-AE2E2100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E70CC-59DC-4ED2-8BBB-0D666397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E79ED-1115-4BA0-B73E-CC56A9D9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E8049-D4BA-4394-8449-F0ED9D9E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49477-B5DB-4C7D-98ED-5EF763C3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49B0A-CB3E-4A62-A12C-0A00E3C3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6482A-821A-468F-918B-EFE364E1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BB8-2D79-4EE6-97C5-7CC85B1E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FEFFF-B5C0-4307-94F7-67F19C54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766FE-C1FB-4F89-A269-C59FDF19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71818-8206-46F1-9818-7BE29712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D6032-2BCE-421C-9A51-2C372E13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A2402-7587-4779-B596-EAAB16C1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329BA-21D9-414F-8A53-45D79F46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B936C-46C5-45B1-92A8-B579A5E6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1C0FE-4F62-49F6-8647-BB9E1B29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E1E69-2320-4E73-A909-84C40F11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79866-7EE2-4449-AC8B-FFEFFE73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235-B5F8-44AE-B41B-5F67AB07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92299-A56F-44DC-AC8B-ED533B1E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B075F-7999-49B7-9F86-B48C5684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5B8A6-2C67-43B4-9D67-59B97094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BBE08-7B8B-4ABC-8EC8-06976613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019E5-27E0-424D-8D6E-FF4A4F56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884D0-6247-426C-BF9B-BD15E45C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114F8-CAD6-4D85-853B-5999A19B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0E80F-B968-418D-89E2-8D2AB8DC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3F1D6-2738-4DE6-862C-50C4A4D2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8972C-3F7A-4F79-A2D8-B906CF2D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28CB-500E-409B-9979-B57CC4CCA0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B05B-546F-47D4-9082-4C9FBD3524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44AF-C7E8-406B-9502-81EF0DA0D5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22E7-FF1B-4A6B-8E13-46C485CC40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5472-3D98-4372-88CD-5344D63232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DDFC-7882-4F54-A3D2-6FB113BFF6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75EE-8C33-4937-8908-496D3CBCB2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2CF8-F640-4FC1-96CA-7124EC6C18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D1C9-B72D-49E3-BBE8-F89CDB6C07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4D96-0937-4B9F-AC1D-1F8B97EE60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7E8C-FE2C-45E0-9676-109867C8A8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43DC-4BF8-4240-A5FF-4366B1204A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A6DE-64A2-42F8-84C4-A4BAF57C61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01A8-0283-4E1D-A3A6-AD1CB70EAF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803E-9427-450A-930D-CD7170B81F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F2D2-DE4D-4679-88DA-C2BC08C3DD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FFEF-DC21-4CC2-AC6B-1FE3A423A7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82AC-87E0-445D-9F81-6AABAEBE4E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C0DE-C78A-4AA2-9906-1C07B5F5A5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1E74-8BB5-4660-9785-F118E5B7A0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C9C6-38F7-4F96-AD4B-85DA953936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F42F-727D-4CAD-A58C-107102213E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54F6-FC36-49AA-9A8B-BE48C67E65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A6CB-E732-404A-87DC-4C120B2732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F77A-B59A-4FF8-9B34-870C4046B3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44EA-F731-45D3-9B89-DDBE6CA542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6F54-834E-43BB-82A3-318A315C2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86C7-BC86-4764-98EB-B33F27939F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2BD9-EA5F-47A6-B7EE-40CEB5BADD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2E0D-4683-44B4-ABD1-EE8EC274C3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8B43-F7C1-4582-A785-3B3BE6748A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1206-9634-4FDA-9ACA-7694DE9E0F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3C0A-79CD-4427-9DCE-0958A5262C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26E3-6352-432D-889E-D51AAB29E5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D7B3-A264-4F5A-A531-BF06EF0220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CA49-3733-4EE7-8E06-480F65DF95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1094-6EC4-40AC-A7E9-B5350271C9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DB41-4327-47F3-86BC-E65EAB74A0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5FC5-F39F-4AEF-9034-0F34918889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CDAF-2DFE-42F6-8BD2-D3208E8D1C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3061-CA9A-40B1-AC34-3CC875626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86D2-A3A9-40BE-A62C-4AFD51911D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FC58-B308-4516-AD86-056430E8F0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29A4-5DF9-4D37-BD4D-312DFDF263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96C8-39D0-4C7D-A06B-27B96188F5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C42A-0BBF-4E1E-81DC-2A43C142B5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A140-75D5-4498-B8D4-570D072264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1A8A-5A4B-4D53-9176-88A99ABEB4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12CC-38FC-44BB-8429-854960B008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4DA5-0810-4E20-9E2A-2255B0DEB5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438280" y="3000240"/>
            <a:ext cx="426744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6737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48680" cy="5314680"/>
          </a:xfrm>
          <a:prstGeom prst="rect">
            <a:avLst/>
          </a:prstGeom>
          <a:ln w="0">
            <a:noFill/>
          </a:ln>
        </p:spPr>
      </p:pic>
      <p:sp>
        <p:nvSpPr>
          <p:cNvPr id="1472" name="矩形 116738"/>
          <p:cNvSpPr/>
          <p:nvPr/>
        </p:nvSpPr>
        <p:spPr>
          <a:xfrm>
            <a:off x="6246720" y="2511360"/>
            <a:ext cx="5050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6739"/>
          <p:cNvSpPr/>
          <p:nvPr/>
        </p:nvSpPr>
        <p:spPr>
          <a:xfrm>
            <a:off x="5580000" y="2997360"/>
            <a:ext cx="30481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6740"/>
          <p:cNvSpPr/>
          <p:nvPr/>
        </p:nvSpPr>
        <p:spPr>
          <a:xfrm>
            <a:off x="1446120" y="3463920"/>
            <a:ext cx="29037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6741"/>
          <p:cNvSpPr/>
          <p:nvPr/>
        </p:nvSpPr>
        <p:spPr>
          <a:xfrm>
            <a:off x="6640560" y="4441680"/>
            <a:ext cx="189216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6742"/>
          <p:cNvSpPr/>
          <p:nvPr/>
        </p:nvSpPr>
        <p:spPr>
          <a:xfrm>
            <a:off x="1509840" y="4924440"/>
            <a:ext cx="72388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6743"/>
          <p:cNvSpPr/>
          <p:nvPr/>
        </p:nvSpPr>
        <p:spPr>
          <a:xfrm>
            <a:off x="1459080" y="5394240"/>
            <a:ext cx="72388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6744"/>
          <p:cNvSpPr/>
          <p:nvPr/>
        </p:nvSpPr>
        <p:spPr>
          <a:xfrm>
            <a:off x="1187280" y="5877000"/>
            <a:ext cx="70567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5713" descr=""/>
          <p:cNvPicPr/>
          <p:nvPr/>
        </p:nvPicPr>
        <p:blipFill>
          <a:blip r:embed="rId1"/>
          <a:stretch/>
        </p:blipFill>
        <p:spPr>
          <a:xfrm>
            <a:off x="423720" y="1662120"/>
            <a:ext cx="8296560" cy="353376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15714"/>
          <p:cNvSpPr/>
          <p:nvPr/>
        </p:nvSpPr>
        <p:spPr>
          <a:xfrm>
            <a:off x="6259680" y="3068640"/>
            <a:ext cx="8334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5715"/>
          <p:cNvSpPr/>
          <p:nvPr/>
        </p:nvSpPr>
        <p:spPr>
          <a:xfrm>
            <a:off x="3008160" y="3538440"/>
            <a:ext cx="8337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5716"/>
          <p:cNvSpPr/>
          <p:nvPr/>
        </p:nvSpPr>
        <p:spPr>
          <a:xfrm>
            <a:off x="6424560" y="3551400"/>
            <a:ext cx="8334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5717"/>
          <p:cNvSpPr/>
          <p:nvPr/>
        </p:nvSpPr>
        <p:spPr>
          <a:xfrm>
            <a:off x="2944800" y="4033800"/>
            <a:ext cx="8334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5718"/>
          <p:cNvSpPr/>
          <p:nvPr/>
        </p:nvSpPr>
        <p:spPr>
          <a:xfrm>
            <a:off x="1928880" y="4567320"/>
            <a:ext cx="343512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14689" descr=""/>
          <p:cNvPicPr/>
          <p:nvPr/>
        </p:nvPicPr>
        <p:blipFill>
          <a:blip r:embed="rId1"/>
          <a:stretch/>
        </p:blipFill>
        <p:spPr>
          <a:xfrm>
            <a:off x="1047600" y="1881360"/>
            <a:ext cx="704880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13665" descr=""/>
          <p:cNvPicPr/>
          <p:nvPr/>
        </p:nvPicPr>
        <p:blipFill>
          <a:blip r:embed="rId1"/>
          <a:stretch/>
        </p:blipFill>
        <p:spPr>
          <a:xfrm>
            <a:off x="433440" y="1176480"/>
            <a:ext cx="827712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12641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134560" cy="1238400"/>
          </a:xfrm>
          <a:prstGeom prst="rect">
            <a:avLst/>
          </a:prstGeom>
          <a:ln w="0">
            <a:noFill/>
          </a:ln>
        </p:spPr>
      </p:pic>
      <p:pic>
        <p:nvPicPr>
          <p:cNvPr id="1488" name="图片 112642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7439040" cy="264780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2643"/>
          <p:cNvSpPr/>
          <p:nvPr/>
        </p:nvSpPr>
        <p:spPr>
          <a:xfrm>
            <a:off x="4140360" y="1569960"/>
            <a:ext cx="71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2644"/>
          <p:cNvSpPr/>
          <p:nvPr/>
        </p:nvSpPr>
        <p:spPr>
          <a:xfrm>
            <a:off x="7543800" y="155736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2645"/>
          <p:cNvSpPr/>
          <p:nvPr/>
        </p:nvSpPr>
        <p:spPr>
          <a:xfrm>
            <a:off x="5918040" y="211608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2646"/>
          <p:cNvSpPr/>
          <p:nvPr/>
        </p:nvSpPr>
        <p:spPr>
          <a:xfrm>
            <a:off x="2298600" y="3233880"/>
            <a:ext cx="42181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2647"/>
          <p:cNvSpPr/>
          <p:nvPr/>
        </p:nvSpPr>
        <p:spPr>
          <a:xfrm>
            <a:off x="2260440" y="3983040"/>
            <a:ext cx="42181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2648"/>
          <p:cNvSpPr/>
          <p:nvPr/>
        </p:nvSpPr>
        <p:spPr>
          <a:xfrm>
            <a:off x="2158920" y="4694400"/>
            <a:ext cx="421812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11618" descr=""/>
          <p:cNvPicPr/>
          <p:nvPr/>
        </p:nvPicPr>
        <p:blipFill>
          <a:blip r:embed="rId1"/>
          <a:stretch/>
        </p:blipFill>
        <p:spPr>
          <a:xfrm>
            <a:off x="433440" y="1305000"/>
            <a:ext cx="82771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10593" descr=""/>
          <p:cNvPicPr/>
          <p:nvPr/>
        </p:nvPicPr>
        <p:blipFill>
          <a:blip r:embed="rId1"/>
          <a:stretch/>
        </p:blipFill>
        <p:spPr>
          <a:xfrm>
            <a:off x="461880" y="1566720"/>
            <a:ext cx="82202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09569" descr=""/>
          <p:cNvPicPr/>
          <p:nvPr/>
        </p:nvPicPr>
        <p:blipFill>
          <a:blip r:embed="rId1"/>
          <a:stretch/>
        </p:blipFill>
        <p:spPr>
          <a:xfrm>
            <a:off x="600120" y="2085840"/>
            <a:ext cx="7943760" cy="2686320"/>
          </a:xfrm>
          <a:prstGeom prst="rect">
            <a:avLst/>
          </a:prstGeom>
          <a:ln w="0">
            <a:noFill/>
          </a:ln>
        </p:spPr>
      </p:pic>
      <p:sp>
        <p:nvSpPr>
          <p:cNvPr id="1498" name="矩形 109570"/>
          <p:cNvSpPr/>
          <p:nvPr/>
        </p:nvSpPr>
        <p:spPr>
          <a:xfrm>
            <a:off x="2995560" y="2708280"/>
            <a:ext cx="121608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9571"/>
          <p:cNvSpPr/>
          <p:nvPr/>
        </p:nvSpPr>
        <p:spPr>
          <a:xfrm>
            <a:off x="5891040" y="2708280"/>
            <a:ext cx="177660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9572"/>
          <p:cNvSpPr/>
          <p:nvPr/>
        </p:nvSpPr>
        <p:spPr>
          <a:xfrm>
            <a:off x="2970360" y="3787920"/>
            <a:ext cx="121572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9573"/>
          <p:cNvSpPr/>
          <p:nvPr/>
        </p:nvSpPr>
        <p:spPr>
          <a:xfrm>
            <a:off x="6005520" y="3787920"/>
            <a:ext cx="1216080" cy="38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图片 108545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2484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图片 107521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48680" cy="5133960"/>
          </a:xfrm>
          <a:prstGeom prst="rect">
            <a:avLst/>
          </a:prstGeom>
          <a:ln w="0">
            <a:noFill/>
          </a:ln>
        </p:spPr>
      </p:pic>
      <p:sp>
        <p:nvSpPr>
          <p:cNvPr id="1504" name="矩形 107522"/>
          <p:cNvSpPr/>
          <p:nvPr/>
        </p:nvSpPr>
        <p:spPr>
          <a:xfrm>
            <a:off x="1852560" y="2270160"/>
            <a:ext cx="67518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07523"/>
          <p:cNvSpPr/>
          <p:nvPr/>
        </p:nvSpPr>
        <p:spPr>
          <a:xfrm>
            <a:off x="1128600" y="2879640"/>
            <a:ext cx="149868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7524"/>
          <p:cNvSpPr/>
          <p:nvPr/>
        </p:nvSpPr>
        <p:spPr>
          <a:xfrm>
            <a:off x="6297480" y="3946680"/>
            <a:ext cx="230688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07525"/>
          <p:cNvSpPr/>
          <p:nvPr/>
        </p:nvSpPr>
        <p:spPr>
          <a:xfrm>
            <a:off x="1636560" y="4492800"/>
            <a:ext cx="639144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07526"/>
          <p:cNvSpPr/>
          <p:nvPr/>
        </p:nvSpPr>
        <p:spPr>
          <a:xfrm>
            <a:off x="2373480" y="5521320"/>
            <a:ext cx="23065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30" descr=""/>
          <p:cNvPicPr/>
          <p:nvPr/>
        </p:nvPicPr>
        <p:blipFill>
          <a:blip r:embed="rId1"/>
          <a:stretch/>
        </p:blipFill>
        <p:spPr>
          <a:xfrm>
            <a:off x="324000" y="2152800"/>
            <a:ext cx="8496000" cy="255240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1"/>
          <p:cNvSpPr/>
          <p:nvPr/>
        </p:nvSpPr>
        <p:spPr>
          <a:xfrm>
            <a:off x="4643280" y="2924280"/>
            <a:ext cx="8654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2"/>
          <p:cNvSpPr/>
          <p:nvPr/>
        </p:nvSpPr>
        <p:spPr>
          <a:xfrm>
            <a:off x="5481720" y="3355920"/>
            <a:ext cx="18986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3"/>
          <p:cNvSpPr/>
          <p:nvPr/>
        </p:nvSpPr>
        <p:spPr>
          <a:xfrm>
            <a:off x="3436920" y="3838680"/>
            <a:ext cx="199872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4"/>
          <p:cNvSpPr/>
          <p:nvPr/>
        </p:nvSpPr>
        <p:spPr>
          <a:xfrm>
            <a:off x="592200" y="4282920"/>
            <a:ext cx="865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5"/>
          <p:cNvSpPr/>
          <p:nvPr/>
        </p:nvSpPr>
        <p:spPr>
          <a:xfrm>
            <a:off x="3635280" y="4317840"/>
            <a:ext cx="8654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3905" descr=""/>
          <p:cNvPicPr/>
          <p:nvPr/>
        </p:nvPicPr>
        <p:blipFill>
          <a:blip r:embed="rId1"/>
          <a:stretch/>
        </p:blipFill>
        <p:spPr>
          <a:xfrm>
            <a:off x="343080" y="2181240"/>
            <a:ext cx="8458200" cy="2495520"/>
          </a:xfrm>
          <a:prstGeom prst="rect">
            <a:avLst/>
          </a:prstGeom>
          <a:ln w="0">
            <a:noFill/>
          </a:ln>
        </p:spPr>
      </p:pic>
      <p:sp>
        <p:nvSpPr>
          <p:cNvPr id="1440" name="矩形 123907"/>
          <p:cNvSpPr/>
          <p:nvPr/>
        </p:nvSpPr>
        <p:spPr>
          <a:xfrm>
            <a:off x="3800520" y="2527200"/>
            <a:ext cx="55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08"/>
          <p:cNvSpPr/>
          <p:nvPr/>
        </p:nvSpPr>
        <p:spPr>
          <a:xfrm>
            <a:off x="7559640" y="2527200"/>
            <a:ext cx="973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09"/>
          <p:cNvSpPr/>
          <p:nvPr/>
        </p:nvSpPr>
        <p:spPr>
          <a:xfrm>
            <a:off x="2949480" y="2933640"/>
            <a:ext cx="3135240" cy="40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10"/>
          <p:cNvSpPr/>
          <p:nvPr/>
        </p:nvSpPr>
        <p:spPr>
          <a:xfrm>
            <a:off x="2403360" y="3390840"/>
            <a:ext cx="1376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3911"/>
          <p:cNvSpPr/>
          <p:nvPr/>
        </p:nvSpPr>
        <p:spPr>
          <a:xfrm>
            <a:off x="4572000" y="3405240"/>
            <a:ext cx="555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3912"/>
          <p:cNvSpPr/>
          <p:nvPr/>
        </p:nvSpPr>
        <p:spPr>
          <a:xfrm>
            <a:off x="6429240" y="3835440"/>
            <a:ext cx="231948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3913"/>
          <p:cNvSpPr/>
          <p:nvPr/>
        </p:nvSpPr>
        <p:spPr>
          <a:xfrm>
            <a:off x="1082520" y="4292640"/>
            <a:ext cx="1041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3914"/>
          <p:cNvSpPr/>
          <p:nvPr/>
        </p:nvSpPr>
        <p:spPr>
          <a:xfrm>
            <a:off x="4194000" y="4280040"/>
            <a:ext cx="1041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2881" descr=""/>
          <p:cNvPicPr/>
          <p:nvPr/>
        </p:nvPicPr>
        <p:blipFill>
          <a:blip r:embed="rId1"/>
          <a:stretch/>
        </p:blipFill>
        <p:spPr>
          <a:xfrm>
            <a:off x="328680" y="1852560"/>
            <a:ext cx="8486640" cy="315288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2882"/>
          <p:cNvSpPr/>
          <p:nvPr/>
        </p:nvSpPr>
        <p:spPr>
          <a:xfrm>
            <a:off x="8028000" y="321300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2883"/>
          <p:cNvSpPr/>
          <p:nvPr/>
        </p:nvSpPr>
        <p:spPr>
          <a:xfrm>
            <a:off x="8101080" y="393372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21857" descr=""/>
          <p:cNvPicPr/>
          <p:nvPr/>
        </p:nvPicPr>
        <p:blipFill>
          <a:blip r:embed="rId1"/>
          <a:stretch/>
        </p:blipFill>
        <p:spPr>
          <a:xfrm>
            <a:off x="295200" y="2052720"/>
            <a:ext cx="8553600" cy="275256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21859"/>
          <p:cNvSpPr/>
          <p:nvPr/>
        </p:nvSpPr>
        <p:spPr>
          <a:xfrm>
            <a:off x="8040600" y="2565360"/>
            <a:ext cx="505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1860"/>
          <p:cNvSpPr/>
          <p:nvPr/>
        </p:nvSpPr>
        <p:spPr>
          <a:xfrm>
            <a:off x="8066160" y="406404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20833" descr=""/>
          <p:cNvPicPr/>
          <p:nvPr/>
        </p:nvPicPr>
        <p:blipFill>
          <a:blip r:embed="rId1"/>
          <a:stretch/>
        </p:blipFill>
        <p:spPr>
          <a:xfrm>
            <a:off x="314280" y="1628640"/>
            <a:ext cx="8515440" cy="360072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20834"/>
          <p:cNvSpPr/>
          <p:nvPr/>
        </p:nvSpPr>
        <p:spPr>
          <a:xfrm>
            <a:off x="3071880" y="3260880"/>
            <a:ext cx="35161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0835"/>
          <p:cNvSpPr/>
          <p:nvPr/>
        </p:nvSpPr>
        <p:spPr>
          <a:xfrm>
            <a:off x="5192640" y="3616200"/>
            <a:ext cx="2116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0836"/>
          <p:cNvSpPr/>
          <p:nvPr/>
        </p:nvSpPr>
        <p:spPr>
          <a:xfrm>
            <a:off x="2233440" y="4010040"/>
            <a:ext cx="16909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0837"/>
          <p:cNvSpPr/>
          <p:nvPr/>
        </p:nvSpPr>
        <p:spPr>
          <a:xfrm>
            <a:off x="1623960" y="4378320"/>
            <a:ext cx="2876760" cy="4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0838"/>
          <p:cNvSpPr/>
          <p:nvPr/>
        </p:nvSpPr>
        <p:spPr>
          <a:xfrm>
            <a:off x="7211880" y="4518000"/>
            <a:ext cx="6001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0839"/>
          <p:cNvSpPr/>
          <p:nvPr/>
        </p:nvSpPr>
        <p:spPr>
          <a:xfrm>
            <a:off x="1776240" y="4873680"/>
            <a:ext cx="6001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20840"/>
          <p:cNvSpPr/>
          <p:nvPr/>
        </p:nvSpPr>
        <p:spPr>
          <a:xfrm>
            <a:off x="3097080" y="4898880"/>
            <a:ext cx="6001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9809" descr=""/>
          <p:cNvPicPr/>
          <p:nvPr/>
        </p:nvPicPr>
        <p:blipFill>
          <a:blip r:embed="rId1"/>
          <a:stretch/>
        </p:blipFill>
        <p:spPr>
          <a:xfrm>
            <a:off x="352440" y="2585880"/>
            <a:ext cx="8439120" cy="1686240"/>
          </a:xfrm>
          <a:prstGeom prst="rect">
            <a:avLst/>
          </a:prstGeom>
          <a:ln w="0">
            <a:noFill/>
          </a:ln>
        </p:spPr>
      </p:pic>
      <p:sp>
        <p:nvSpPr>
          <p:cNvPr id="1463" name="矩形 119810"/>
          <p:cNvSpPr/>
          <p:nvPr/>
        </p:nvSpPr>
        <p:spPr>
          <a:xfrm>
            <a:off x="3059280" y="2612880"/>
            <a:ext cx="14414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9811"/>
          <p:cNvSpPr/>
          <p:nvPr/>
        </p:nvSpPr>
        <p:spPr>
          <a:xfrm>
            <a:off x="5040360" y="2600280"/>
            <a:ext cx="14414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9812"/>
          <p:cNvSpPr/>
          <p:nvPr/>
        </p:nvSpPr>
        <p:spPr>
          <a:xfrm>
            <a:off x="7656480" y="3375000"/>
            <a:ext cx="1019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9813"/>
          <p:cNvSpPr/>
          <p:nvPr/>
        </p:nvSpPr>
        <p:spPr>
          <a:xfrm>
            <a:off x="976320" y="3794040"/>
            <a:ext cx="1019160" cy="3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8785" descr=""/>
          <p:cNvPicPr/>
          <p:nvPr/>
        </p:nvPicPr>
        <p:blipFill>
          <a:blip r:embed="rId1"/>
          <a:stretch/>
        </p:blipFill>
        <p:spPr>
          <a:xfrm>
            <a:off x="461880" y="1433520"/>
            <a:ext cx="8220240" cy="399096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8786"/>
          <p:cNvSpPr/>
          <p:nvPr/>
        </p:nvSpPr>
        <p:spPr>
          <a:xfrm>
            <a:off x="7885080" y="2587680"/>
            <a:ext cx="504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7761" descr=""/>
          <p:cNvPicPr/>
          <p:nvPr/>
        </p:nvPicPr>
        <p:blipFill>
          <a:blip r:embed="rId1"/>
          <a:stretch/>
        </p:blipFill>
        <p:spPr>
          <a:xfrm>
            <a:off x="438120" y="2214720"/>
            <a:ext cx="8267760" cy="242856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7762"/>
          <p:cNvSpPr/>
          <p:nvPr/>
        </p:nvSpPr>
        <p:spPr>
          <a:xfrm>
            <a:off x="7885080" y="2349360"/>
            <a:ext cx="504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9:18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